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36.png" ContentType="image/png"/>
  <Override PartName="/ppt/media/image14.png" ContentType="image/png"/>
  <Override PartName="/ppt/media/image9.wmf" ContentType="image/x-wmf"/>
  <Override PartName="/ppt/media/image38.png" ContentType="image/png"/>
  <Override PartName="/ppt/media/image39.png" ContentType="image/png"/>
  <Override PartName="/ppt/media/image40.jpeg" ContentType="image/jpeg"/>
  <Override PartName="/ppt/media/image5.png" ContentType="image/png"/>
  <Override PartName="/ppt/media/image35.png" ContentType="image/png"/>
  <Override PartName="/ppt/media/image8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AC8A-5D85-4EC6-AFF2-C080A7A66B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8DB-9D38-4428-841B-21175B5122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4EC-FADC-4B39-A680-613D226B72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69C-0998-4677-BB58-3494E3A70B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AFC9-AE7A-4BA3-8E8E-4FB783F79E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958-3C30-41DF-A6D9-F10A752300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7B82-32DF-4217-982F-844A638C71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9151-3E68-4741-AF87-4CCFD42A05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FDC-E3CF-4DC8-AB0F-74A281C2C7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396-37A8-45E6-97C6-648DA641A6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B9E-A063-4B6A-9F36-1816F30491E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F6D-228F-4B20-9623-E9AE18747A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A28-9A03-4A72-B9B5-0816031BDD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DFEB-A0C6-4D93-9A96-9B1D50667A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BDF3-19B5-43B3-9A7C-531665F1CE3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DD7-0D16-4808-BD02-1C8D731B2A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2C60-CED5-4A73-8DE5-D0CFAC3A9D5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687B-1904-4423-9936-1804EFE05A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2EE-553A-4CD2-8D05-EB0655F659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BCD-38F7-4770-A6F6-FEB62811DC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782-1626-485B-98C0-5CB29A5C7B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052A-888E-4245-80AC-CB2EC5215E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0678-D3CF-4675-BA5A-7FEA8E2EEB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44B-9925-4217-B5F6-2485409729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580D-66FB-4A86-AA03-C654B3DD84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BF3C-CECD-4CF9-A905-1FA83AEF72C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27B-59A1-4544-A4DF-E365A72067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811E-D69E-46A1-9EF1-E2D9F9A96A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58A9-13A2-4CD5-8003-0AE3DB0EEE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9AB-B962-41E0-BEB0-0C3FDCFD5D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7FB-EC10-4C6A-AFCB-665B20D7D18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871-B9D8-43D0-B863-335D9FC057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20E-CD3F-4619-B60A-BE9F141552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DCA3-60EB-4BBB-8010-9853B7EE202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D48-4604-4AE1-99FA-8C75B11F32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D72B-3693-465B-9E6B-B1AB28B6BC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94F6-E6D6-460A-A652-9E1EE1CDF1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1366-FEC0-4D7A-B3B3-FA5F7A738C6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8AA7-0D82-4833-BF6D-F5EDE9E177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B86-1187-4349-8923-B2397FEE6A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6C6C-ACAF-4B00-9FBB-1FE6A4CA18E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8A1-4AF6-444F-8FF3-BD2D89086B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79960" cy="3135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045800" y="4352760"/>
            <a:ext cx="47703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D3EC-8D84-423B-86F9-C930219ECE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FCD4-D719-4C1B-B44D-83ED48FD5D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1CD7-E1A5-428A-A9AE-8AFEF77A80E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DD2-27B5-4E43-A297-9AC02621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065-7EC1-4D07-AC8C-7E75725D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626-0892-48A2-B418-4F6C3839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131-3645-4DC0-BD10-C6B40BA2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26C-00F1-45D6-8946-B9145B6C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D7-65EE-46AD-9DF0-A7665D6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11D-E5B9-464A-BD7E-BC407CD8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FDD-3D88-4AA6-9FA9-9BF15A9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B8C-3DD1-4EC9-BE0F-5C6DEE2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6AB-D449-4119-8553-4E057E9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5B0-0B6A-4047-9F75-6E7CF89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F3B-0582-4766-8C28-991EC37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8D85-0F15-4468-8B29-E78A2EDDE01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magine1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550836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Analgesici Oppiac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Palatino Linotype"/>
              </a:rPr>
              <a:t>“…</a:t>
            </a:r>
            <a:r>
              <a:rPr b="1" i="1" lang="it-IT" sz="3200" spc="-1" strike="noStrike">
                <a:solidFill>
                  <a:srgbClr val="000000"/>
                </a:solidFill>
                <a:latin typeface="Palatino Linotype"/>
              </a:rPr>
              <a:t>solo agli dei scorre la vita, eternamente, senza mai dol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chilo- Agamennone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orf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34920" y="764640"/>
            <a:ext cx="51339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costituita da un anello fenantrenico parzialmente ridotto, congiunto ad un anello diirofuranico e ciclo piperidin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via biogenetica di sintesi della morfina parte dalla tirosina e passa attraverso la dopamina, che è un mediatore centr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selettiva per i recettori 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siede 5 centri stereogenici (2^5=32 stereoisomer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restrizioni di tipo geometrico limitano le possibilità a 16 stereoisomer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'enantiomero naturale della morfina è levogiro ed ha configurazione assoluta: (5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13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morfina destrogira è circa 10.000 volte meno affine e ha un'efficacia circa 100 volte minore dell'antipodo levogi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RF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􀁄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803: isolata da parte di un farmacista tedesco ( Serturner) ecosìdenominataconunchiaroriferimentomitologicoaldiodelsonno Morf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􀁄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925: determinazione della struttura (Robinson e Gulla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􀁄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952: prima sintesi chimica (Gat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􀁄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952: determinazione univoca della stereochimica (Stork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4933" t="1973" r="5987" b="2914"/>
          <a:stretch/>
        </p:blipFill>
        <p:spPr>
          <a:xfrm>
            <a:off x="0" y="692280"/>
            <a:ext cx="3600360" cy="2998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0" y="4005360"/>
            <a:ext cx="41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7931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ofilo farmacologico della Morfina I principali effetti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analges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uforia e disforia (malessere psicologico), seda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epressione respiratoria (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causa principale dei decessi daavvelenamento da morfin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epressione dei riflessi della tos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ausea e vom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ipendenza fisica e psicolog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miosi (costrizione della pupill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costipazione (riduzione della motilità intestina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pasmi delle vie biliar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timoli e difficoltà della minz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timolazione del rilascio di istamina con conseguenti vaso-dilatazione, broncocostrizione, arrossamento e prur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a morfina può essere somministra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 via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oral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(la potenza analgesica si riduce a circa 1/3-1/6 rispetto a quella ottenuta per somministrazione parentera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 via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sottocutanea e intramuscolar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: l’assorbimento è costante ed efficace con l’inconveniente dell’irritazione dei tessu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er via 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endovenos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: è preferita l’infusione lenta per una migliore copertura antalgica ed una diminuzione del rischio di sovradosagg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0" t="0" r="0" b="3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71468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ttangolo 3"/>
          <p:cNvSpPr/>
          <p:nvPr/>
        </p:nvSpPr>
        <p:spPr>
          <a:xfrm>
            <a:off x="5143680" y="4071960"/>
            <a:ext cx="78552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tangolo 4"/>
          <p:cNvSpPr/>
          <p:nvPr/>
        </p:nvSpPr>
        <p:spPr>
          <a:xfrm>
            <a:off x="5572080" y="4071960"/>
            <a:ext cx="914400" cy="28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5"/>
          <p:cNvSpPr/>
          <p:nvPr/>
        </p:nvSpPr>
        <p:spPr>
          <a:xfrm>
            <a:off x="5572080" y="5715000"/>
            <a:ext cx="6429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6"/>
          <p:cNvSpPr/>
          <p:nvPr/>
        </p:nvSpPr>
        <p:spPr>
          <a:xfrm>
            <a:off x="2286000" y="6215040"/>
            <a:ext cx="41432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60818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043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DE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ilmorf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attiva anche per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0% viene convertito in morfina per cui è poco analge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uce costipazione, ma non dipend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ata nei dolori moderati e per sopprimere la to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ffetto anti tosse coinvolge recettori diversi da quelli per gli oppioidi, e specifici per  la code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rcRect l="0" t="0" r="46972" b="15783"/>
          <a:stretch/>
        </p:blipFill>
        <p:spPr>
          <a:xfrm>
            <a:off x="2857680" y="414324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428920" y="5072040"/>
            <a:ext cx="990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2214720" y="4857840"/>
            <a:ext cx="121896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Ero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8120" y="2425680"/>
            <a:ext cx="6095880" cy="4432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114300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acetilmorf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tente analgesico stupefacente ad azione più rapida e più breve di quella della morfi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utilizzata in tera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6934320" y="5105520"/>
            <a:ext cx="2209680" cy="1752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2819520" y="3581280"/>
            <a:ext cx="2286000" cy="15242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8008" r="0" b="14308"/>
          <a:stretch/>
        </p:blipFill>
        <p:spPr>
          <a:xfrm>
            <a:off x="743040" y="0"/>
            <a:ext cx="659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anno tissutale provoca la liberazione di varie molecole e ioni che attivano i nocicettori. Questi, tramite riflessi asso-assonici, determinano la liberazione di sostanza P. Questa provoca vasodilatazione ed edema e induce la liberazione di istamina da parte dei mastociti. L'istamina stimola i nocicettori creando, così, un circolo chiu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mpulso algogeno decorre lungo le fibre nervose il cui neurone è situato nel ganglio spi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olore_perif"/>
          <p:cNvPicPr/>
          <p:nvPr/>
        </p:nvPicPr>
        <p:blipFill>
          <a:blip r:embed="rId1"/>
          <a:stretch/>
        </p:blipFill>
        <p:spPr>
          <a:xfrm>
            <a:off x="1566720" y="115920"/>
            <a:ext cx="56563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6352" r="0" b="30973"/>
          <a:stretch/>
        </p:blipFill>
        <p:spPr>
          <a:xfrm>
            <a:off x="611280" y="-17640"/>
            <a:ext cx="820872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3823" r="0" b="2315"/>
          <a:stretch/>
        </p:blipFill>
        <p:spPr>
          <a:xfrm>
            <a:off x="2216160" y="0"/>
            <a:ext cx="54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0" t="5401" r="0" b="18240"/>
          <a:stretch/>
        </p:blipFill>
        <p:spPr>
          <a:xfrm>
            <a:off x="1357200" y="0"/>
            <a:ext cx="67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0" t="3823" r="0" b="2315"/>
          <a:stretch/>
        </p:blipFill>
        <p:spPr>
          <a:xfrm>
            <a:off x="1469880" y="0"/>
            <a:ext cx="59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3823" r="0" b="3893"/>
          <a:stretch/>
        </p:blipFill>
        <p:spPr>
          <a:xfrm>
            <a:off x="2146320" y="0"/>
            <a:ext cx="555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24482" r="0" b="23009"/>
          <a:stretch/>
        </p:blipFill>
        <p:spPr>
          <a:xfrm>
            <a:off x="0" y="18900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2210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rcRect l="0" t="19713" r="0" b="18240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0" t="8592" r="0" b="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0" t="3823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23252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OSTANZA 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8360" y="1125360"/>
            <a:ext cx="367200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uropeptide costituito da 11 aminoacidi, che media la sensazione del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a funzione di neurotrasmettitore di messaggi sensoriali, di catalizzatore dell’attività intestinale e della saliv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ente nella sostanza grigia del sistema nervoso centrale e in minore concentrazione nell’intestino te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0" t="3823" r="0" b="3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10170" r="0" b="134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0" t="29256" r="0" b="27782"/>
          <a:stretch/>
        </p:blipFill>
        <p:spPr>
          <a:xfrm>
            <a:off x="0" y="0"/>
            <a:ext cx="914400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rcRect l="0" t="24482" r="0" b="23009"/>
          <a:stretch/>
        </p:blipFill>
        <p:spPr>
          <a:xfrm>
            <a:off x="250920" y="0"/>
            <a:ext cx="88930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3823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16557" r="0" b="1504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7416" t="8592" r="0" b="70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rcRect l="0" t="3823" r="0" b="3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9534" t="3823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14103" r="0" b="14491"/>
          <a:stretch/>
        </p:blipFill>
        <p:spPr>
          <a:xfrm>
            <a:off x="826920" y="23760"/>
            <a:ext cx="705816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Arial"/>
              </a:rPr>
              <a:t>ANALGESICI O ANTI-NOCIC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questo termine vengono gneralmente indicati i farmaci capaci di alleviare il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 i farmaci capaci di avere un simile effetto si ritrov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Anestetici generali e l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Agenti deprimenti il S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Arial"/>
              </a:rPr>
              <a:t>F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5050"/>
                </a:solidFill>
                <a:uFillTx/>
                <a:latin typeface="Arial"/>
              </a:rPr>
              <a:t>ANALGESICI OPPIO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00720" y="242100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biscono la trasmissione del dolore attraverso azioni non mediate dai recettori, sulle membrane delle cellule nerv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067280" y="422100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500720" y="34290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etanolo, barbiturici) riducono la percezione del do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00720" y="4149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sito d’azione è periferico, utilizzati per il dolore di lieve ent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7773" r="0" b="181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LOX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428400"/>
            <a:ext cx="85489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t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1 mg ev blocca 25 mg er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0-15 mg per bloccare effetti da pentazo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ssorbimento è buono ma viene complet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zzato dal fegato. Deve essere somm. Per via parenter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tag  la  depres resp in 1-2 min. L’azione dura 1- 4 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zione neuroprotettiva 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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SH, LH, PRL, ACTH, cortisolo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umo energetico -- effetto anoressizz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3"/>
          <p:cNvSpPr/>
          <p:nvPr/>
        </p:nvSpPr>
        <p:spPr>
          <a:xfrm>
            <a:off x="3286080" y="3714840"/>
            <a:ext cx="23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LTREX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28760" y="4143240"/>
            <a:ext cx="8429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t/2  14 ore e durata d’azione di 24 ore. 100 mg per os bloccano per 48 ore gli effetti euforizzanti di 25 mg ero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pieg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pres resp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gnosi di  dipendenza fisic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o compulsivo oppioidi,  alcol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0" t="3823" r="0" b="23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D:\Pizzi-cond\didattica\oppioidi\LUCIDI\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208080"/>
            <a:ext cx="914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OPPIOIDI  ENDOGE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8040" y="1004760"/>
            <a:ext cx="77598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973   sono stati scoperti i recettori specifici per la morfina nel tessuto nerv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1975   Hughes e Kosterliz hanno isolato, purificato e sequenziato i primi due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ptidi endogeni ad attività morfino sens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733560" y="2487600"/>
            <a:ext cx="15883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NKEFA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314360" y="3247920"/>
            <a:ext cx="2171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T-ENKEF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462640" y="3178080"/>
            <a:ext cx="2133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U-ENKEF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4076640"/>
            <a:ext cx="9144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seguito sono state scoperte altre sostanze endog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0" y="4849920"/>
            <a:ext cx="1460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NDOR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5670720" y="4836960"/>
            <a:ext cx="1466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NORFIN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990800" y="5634000"/>
            <a:ext cx="5132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Queste tre famiglie sono differenziabili per la loro biosintesi e localizzazione anat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075040" y="5597640"/>
            <a:ext cx="5116320" cy="7588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3665520" y="3247920"/>
            <a:ext cx="1658880" cy="276480"/>
          </a:xfrm>
          <a:prstGeom prst="leftRightArrow">
            <a:avLst>
              <a:gd name="adj1" fmla="val 50000"/>
              <a:gd name="adj2" fmla="val 119444"/>
            </a:avLst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4356000" y="2833560"/>
            <a:ext cx="346320" cy="344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AB1-82EB-4168-9AEB-61A8F8E0AF2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CETTORI OPPIO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U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µ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     DELTA (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;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KAPPA 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;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dorfine                Enkefaline                 Dinorfin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ttori di tipo METABOTROPICO (7-T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rano analogie per il 60% della sequenza nucleotid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MENCL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7 (µ;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(MOR-KOR-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 (O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O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O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 flipV="1">
            <a:off x="539640" y="6093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5276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GLI OPPIOI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27280" y="1071360"/>
            <a:ext cx="6516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oppio e' il succo lattiginoso, condensato all'aria, estratto per incisione dalle capsule non mature del Papaver somniferum 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suo nome deriva dal termine greco opos: succ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L'oppio grezzo e' la sostanza base di tutti gli stupefacenti e contiene circa 20 tipi di alcaloidi, composti organici azotati dotati di elevata azione farmacologica a livello del sistema nervoso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Tra questi alcaloidi sono presenti alcune sostanze di diffuso uso clinico nella terapia del dolore e della tosse, come la </a:t>
            </a:r>
            <a:r>
              <a:rPr b="1" lang="it-IT" sz="2100" spc="-1" strike="noStrike">
                <a:solidFill>
                  <a:srgbClr val="ff5050"/>
                </a:solidFill>
                <a:latin typeface="Arial"/>
              </a:rPr>
              <a:t>code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it-IT" sz="2100" spc="-1" strike="noStrike">
                <a:solidFill>
                  <a:srgbClr val="ff5050"/>
                </a:solidFill>
                <a:latin typeface="Arial"/>
              </a:rPr>
              <a:t>papaver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it-IT" sz="2100" spc="-1" strike="noStrike">
                <a:solidFill>
                  <a:srgbClr val="ff5050"/>
                </a:solidFill>
                <a:latin typeface="Arial"/>
              </a:rPr>
              <a:t>narcot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L'alcaloide principale dell'oppio e' invece la </a:t>
            </a:r>
            <a:r>
              <a:rPr b="1" lang="it-IT" sz="2100" spc="-1" strike="noStrike" u="sng">
                <a:solidFill>
                  <a:srgbClr val="ff5050"/>
                </a:solidFill>
                <a:uFillTx/>
                <a:latin typeface="Arial"/>
              </a:rPr>
              <a:t>morf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Per le sue elevate proprieta' analgesiche, essa e' stata anche soprannominata la "medicina di Dio" e rappresenta tuttora il farmaco piu' usato nella terapia contro il dolor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La morfina e' stata anche la prima droga iniettabile e costituisce la base da cui si sintetizza uno degli stupefacenti piu' tossici e pericolosi: l'</a:t>
            </a:r>
            <a:r>
              <a:rPr b="0" lang="it-IT" sz="2100" spc="-1" strike="noStrike">
                <a:solidFill>
                  <a:srgbClr val="ff5050"/>
                </a:solidFill>
                <a:latin typeface="Arial"/>
              </a:rPr>
              <a:t>eroina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racc03"/>
          <p:cNvPicPr/>
          <p:nvPr/>
        </p:nvPicPr>
        <p:blipFill>
          <a:blip r:embed="rId1"/>
          <a:stretch/>
        </p:blipFill>
        <p:spPr>
          <a:xfrm>
            <a:off x="324000" y="1700280"/>
            <a:ext cx="1939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Farmaci oppiac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oghi della morfina: strutturalmente simili alla morfina, spesso sintetizzati a partire dalla morfina. Comprendono agonisti (morfina,eroina,codeina); agonisti parziali (nalorfina e levallorfano); antagonisti (naloxone e naltrexo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oghi della tebaina: buprenorfina ed etorfi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enilpiperidine: fenantil e petidi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ie del metadone: metadone e destropropossife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enzomorfinani: pentazocina e cilazoci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09:56:26Z</dcterms:created>
  <dc:creator>Luongo Sabato</dc:creator>
  <dc:description/>
  <dc:language>en-US</dc:language>
  <cp:lastModifiedBy>mldefrancesco</cp:lastModifiedBy>
  <dcterms:modified xsi:type="dcterms:W3CDTF">2012-03-02T16:37:14Z</dcterms:modified>
  <cp:revision>38</cp:revision>
  <dc:subject/>
  <dc:title>Diapositiva 1</dc:title>
</cp:coreProperties>
</file>